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move the slide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FFAC0-0BC6-43A6-B6E6-E6DF83C9C8AC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937E2-6E1C-4EF0-AEB1-7C57452540C9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1DE45-55C5-43B0-99EB-F4977DF49311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FC81DA-D8B5-4373-B790-5EF19854F5DC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5D790-F804-40CB-8C08-917EAB8A9015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083C3-D833-4AD8-B88E-74302684478E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55214-6AB1-4451-A657-2DF095425E50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79FE0-B070-45A9-A231-96AB1CA4E26B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4281480"/>
            <a:ext cx="12192120" cy="25765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7272000" y="4867200"/>
            <a:ext cx="423396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000"/>
          </a:bodyPr>
          <a:p>
            <a:pPr marL="237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11140920" y="6197760"/>
            <a:ext cx="33984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490680" y="4938840"/>
            <a:ext cx="3284280" cy="59688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748120" y="25560"/>
            <a:ext cx="6966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-1800" y="1844640"/>
            <a:ext cx="6966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1496600" y="4626000"/>
            <a:ext cx="69696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49240" y="363240"/>
            <a:ext cx="105141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792440" y="894960"/>
            <a:ext cx="8627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000"/>
          </a:bodyPr>
          <a:p>
            <a:pPr marL="273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03" name=""/>
          <p:cNvSpPr/>
          <p:nvPr/>
        </p:nvSpPr>
        <p:spPr>
          <a:xfrm>
            <a:off x="4264200" y="1955880"/>
            <a:ext cx="3551040" cy="3551040"/>
          </a:xfrm>
          <a:prstGeom prst="ellipse">
            <a:avLst/>
          </a:prstGeom>
          <a:noFill/>
          <a:ln w="127080">
            <a:solidFill>
              <a:srgbClr val="0055a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4880" y="1955880"/>
            <a:ext cx="3551040" cy="3551040"/>
          </a:xfrm>
          <a:prstGeom prst="ellipse">
            <a:avLst/>
          </a:prstGeom>
          <a:noFill/>
          <a:ln w="127080">
            <a:solidFill>
              <a:srgbClr val="80808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2841840" y="1276920"/>
            <a:ext cx="7095960" cy="846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4267440" y="-2269800"/>
            <a:ext cx="7095960" cy="846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12000" y="1955880"/>
            <a:ext cx="3551400" cy="3551040"/>
          </a:xfrm>
          <a:prstGeom prst="ellipse">
            <a:avLst/>
          </a:prstGeom>
          <a:noFill/>
          <a:ln w="127080">
            <a:solidFill>
              <a:srgbClr val="ed1c24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6000" y="1276920"/>
            <a:ext cx="7095240" cy="846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0"/>
            <a:ext cx="4703760" cy="6858000"/>
          </a:xfrm>
          <a:custGeom>
            <a:avLst/>
            <a:gdLst>
              <a:gd name="textAreaLeft" fmla="*/ 0 w 4703760"/>
              <a:gd name="textAreaRight" fmla="*/ 4704120 w 470376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-1800" y="1866960"/>
            <a:ext cx="339480" cy="1440"/>
          </a:xfrm>
          <a:prstGeom prst="line">
            <a:avLst/>
          </a:prstGeom>
          <a:ln w="3816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693960" y="2776680"/>
            <a:ext cx="339840" cy="1440"/>
          </a:xfrm>
          <a:prstGeom prst="line">
            <a:avLst/>
          </a:prstGeom>
          <a:ln w="3816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39720" y="5045040"/>
            <a:ext cx="339840" cy="180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553680" y="2109960"/>
            <a:ext cx="347508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6000"/>
          </a:bodyPr>
          <a:p>
            <a:pPr marL="19188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554040" y="528480"/>
            <a:ext cx="2894040" cy="525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rcRect l="0" t="11211" r="0" b="1121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838080" y="1187280"/>
            <a:ext cx="396396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4000" spc="-1" strike="noStrike">
                <a:solidFill>
                  <a:srgbClr val="263c80"/>
                </a:solidFill>
                <a:latin typeface="Asap"/>
                <a:ea typeface="Roboto"/>
              </a:rPr>
              <a:t>Ďakujem </a:t>
            </a:r>
            <a:br>
              <a:rPr sz="4000"/>
            </a:br>
            <a:r>
              <a:rPr b="1" lang="sk-SK" sz="4000" spc="-1" strike="noStrike">
                <a:solidFill>
                  <a:srgbClr val="263c80"/>
                </a:solidFill>
                <a:latin typeface="Asap"/>
                <a:ea typeface="Roboto"/>
              </a:rPr>
              <a:t>za pozornos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-1800" y="3630600"/>
            <a:ext cx="339480" cy="1440"/>
          </a:xfrm>
          <a:prstGeom prst="line">
            <a:avLst/>
          </a:prstGeom>
          <a:ln w="3816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7889760" y="1384200"/>
            <a:ext cx="339840" cy="1800"/>
          </a:xfrm>
          <a:prstGeom prst="line">
            <a:avLst/>
          </a:prstGeom>
          <a:ln w="3816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1140920" y="6197760"/>
            <a:ext cx="33984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838080" y="5510160"/>
            <a:ext cx="34768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33000"/>
          </a:bodyPr>
          <a:p>
            <a:pPr marL="11304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4"/>
          <a:srcRect l="5972" t="0" r="5972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 flipH="1">
            <a:off x="5748120" y="6829560"/>
            <a:ext cx="6966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4157280" y="4730760"/>
            <a:ext cx="387684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0000"/>
          </a:bodyPr>
          <a:p>
            <a:pPr marL="6840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50" name=""/>
          <p:cNvSpPr/>
          <p:nvPr/>
        </p:nvSpPr>
        <p:spPr>
          <a:xfrm>
            <a:off x="4856040" y="5815080"/>
            <a:ext cx="24796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263c80"/>
                </a:solidFill>
                <a:latin typeface="Asap"/>
              </a:rPr>
              <a:t>www.vicepremier.gov.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5637240" y="760320"/>
            <a:ext cx="919080" cy="8715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37720" y="1825560"/>
            <a:ext cx="518004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3153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98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5748120" y="25560"/>
            <a:ext cx="6966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-1800" y="1844640"/>
            <a:ext cx="6966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1496600" y="4626000"/>
            <a:ext cx="69696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459080" y="3459240"/>
            <a:ext cx="9272520" cy="1440"/>
          </a:xfrm>
          <a:prstGeom prst="line">
            <a:avLst/>
          </a:prstGeom>
          <a:ln w="12600">
            <a:solidFill>
              <a:srgbClr val="263c80">
                <a:alpha val="3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12192120" cy="22986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sk-SK" sz="1600" spc="-1" strike="noStrike">
                <a:solidFill>
                  <a:srgbClr val="263c80"/>
                </a:solidFill>
                <a:latin typeface="Roboto Regular"/>
              </a:rPr>
              <a:t>Insert 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880560" y="5067000"/>
            <a:ext cx="224964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7000"/>
          </a:bodyPr>
          <a:p>
            <a:pPr marL="5832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838080" y="348840"/>
            <a:ext cx="105141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7272360" y="486720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sap"/>
              </a:rPr>
              <a:t>K9.4 Lepšie d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272360" y="525132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20.11.2018 – 13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272360" y="563076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ÚPPVII / Londý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94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           Rekapitulácia posledného vývoja, aktuálny stav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           Dátová kancelá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           Zákon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           Informácia o dopytovej výzve na manažment údaj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           Dohoda na ďalšom fungovaní PS Lepšie d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98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kon o údajo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Úloha č. 2: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Predložiť návrh zákona o údajoch na rokovanie vlád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Zodpovední: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dpredseda vlády SR pre investície a informatizáciu v spolupráci 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dpredsedníčkou vlády a ministerkou spravodlivost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dpredsedom vlády a ministrom vnútr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vedúcim Úradu vlády S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edsedníčkou Úradu geodézie, kartografie a katastra SR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plnomocnencom vlády SR pre rozvoj občianskej spoločnos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Termín: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do 31. decembra 2018 (bude predĺžený do 31.12.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02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548080" y="431964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81080" y="446040"/>
            <a:ext cx="10080720" cy="68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kon o údajo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stup a harmon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nalýza súčasného stavu (november 20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vorba problémových oblastí (november-december 20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worksh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n-line dotazní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vorba pracovných skupín (december 20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vorba riešení (január 2019-apríl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ezentácia riešení (máj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worksh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verečná konf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vorba finálnych návrhov (máj 2019-jún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legislatívny proces (júl 2019-december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06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548080" y="431964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936720" y="0"/>
            <a:ext cx="10080360" cy="66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acovné skupiny budú otvorené a pozostávať 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Verejná sprá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rezorty (legislatívci, dátoví kurátori, analytické jednotk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iné OVM, OŠS (ÚOOÚ, Štatistický úrad,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Samosprá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ZMOS, ÚMS, DEUS,  vybrané mestá a o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VÚ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Podnikateľský sek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édiá (Trend, Hospodárske novin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biznis (Finstat,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Neziskový sek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Slovensko.Digital, ITAS, SOIT,...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Iness, HPI, Ine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Centrum pre filantrop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Akademický sek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niverz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0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bsa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efinícia pojm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rčenie kompetenc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Bi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átové štandar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átové licen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átová kva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nfraštruktú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GD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átový kurá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nalytické jednot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4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Komunikác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n-line prie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web stránka ÚPPVII / ÚSV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et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facebook a iné sociálne sie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fórum slovensko.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rello, in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kontaktný bod: Milan Andrejkovi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8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Úlo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Vyjadrenie záujmu pracovať v PS Lepšie dáta (+doplnen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Návrhy na témy PS Lepšie d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Vyjadrenie záujmu pracovať na Zákone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Návrhy na riešenie v Zákone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Ďalšie stretnutie: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dlc_DocId">
    <vt:lpwstr>CTYWSUCD3UHA-699772915-135</vt:lpwstr>
  </property>
  <property fmtid="{D5CDD505-2E9C-101B-9397-08002B2CF9AE}" pid="3" name="_dlc_DocIdItemGuid">
    <vt:lpwstr>3c5fd91d-8cf5-4d58-b3df-68b517b90623</vt:lpwstr>
  </property>
  <property fmtid="{D5CDD505-2E9C-101B-9397-08002B2CF9AE}" pid="4" name="_dlc_DocIdUrl">
    <vt:lpwstr>https://sp.finance.gov.sk/lepsie-data/_layouts/15/DocIdRedir.aspx?ID=CTYWSUCD3UHA-699772915-135, CTYWSUCD3UHA-699772915-135</vt:lpwstr>
  </property>
</Properties>
</file>