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6FA8F-7C3B-42D5-879A-C4F1E760BA8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69D63-2596-436C-B645-9ACE6E7C432F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31B5B-7BE3-4561-97B4-1CA9A710C3A5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6A4E3-5375-4BCC-99E1-C26B9F19218F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CC32F-81E9-42F8-8FD8-963BCA88B3E4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12D84-A298-46C7-AF91-46A599DC30B1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AA8D6-4382-4D37-A0F3-6B5B3D93A371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A65A3-0173-40D5-A57F-BCE3C58917D7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E7EEE-2874-4353-A96D-3A71371160DC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22160-954C-4B17-B2D1-70980F32D3B6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0D7A2-F092-4B04-8E0B-6BBD0DA1A52D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FB5CD-FA6B-4D12-AFDA-3449522C217D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57C70-3696-4485-846A-D87ABC4F9933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1735B-F671-411B-B37F-972EAD39C9D1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DDDF8-6929-45AD-9626-1005CDB90A69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0F14D-A900-4AEA-8704-41ECFB500BB3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77C65-2111-4F91-836F-D22C46F8C081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D92B2-D7C4-4E71-9D83-3C6FCE706B6B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9C8B0-3B63-41E5-96AF-063094E23D7F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AB0F7-F6B6-41F7-B246-F34306BD1092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drive.google.com/drive/folders/1CWhn1jsJIbToFIoX1KyRSJCPtbAHp5Dd?usp=shari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formatizacia.sk/Aktu&#225;lne%20v&#253;zvy/26920s" TargetMode="External"/><Relationship Id="rId2" Type="http://schemas.openxmlformats.org/officeDocument/2006/relationships/hyperlink" Target="http://www.informatizacia.sk/ext_dok-dv_opii_2018_7_3_manazment_udajov_final/27097c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1"/>
          <p:cNvSpPr/>
          <p:nvPr/>
        </p:nvSpPr>
        <p:spPr>
          <a:xfrm>
            <a:off x="7272360" y="486720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4000"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sap"/>
              </a:rPr>
              <a:t>Dátoví kurátori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"/>
          <p:cNvSpPr/>
          <p:nvPr/>
        </p:nvSpPr>
        <p:spPr>
          <a:xfrm>
            <a:off x="7272360" y="525132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3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11.12.2018 – 11: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7272360" y="563076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ÚSVROS/ Cukrová 14 Bratis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ázok 1" descr=""/>
          <p:cNvPicPr/>
          <p:nvPr/>
        </p:nvPicPr>
        <p:blipFill>
          <a:blip r:embed="rId1"/>
          <a:stretch/>
        </p:blipFill>
        <p:spPr>
          <a:xfrm>
            <a:off x="4008600" y="4653000"/>
            <a:ext cx="261288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už pracovn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15.01.2019 – </a:t>
            </a:r>
            <a:r>
              <a:rPr b="0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miesto a čas upresním v pozvá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 druhého stretnutia (3 tém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opis práce, kompetencií,... Dátového kurá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ákladný materiá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https://docs.google.com/document/d/1EYoBdLyICHmVVDI5ftjFs-SMyTicWMOcwwzRFuaYbvA/edit#heading=h.gjdg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redstavenie dopytovej výzvy na manažment dát – 2. k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Riešenie prioritných otázok/ úloh z uznesení vlády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rázok 1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neformálna skupina, ktorá združuje dátových kurátorov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vzájomná pomoc a výmena skúseností pri plnení úloh strategických dokumentov (ÚPPVII, ÚSVROS, NASES,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tvorba požiadaviek voči iným PS a voči Zákonu o dá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dieľaný fo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drive.google.com/drive/folders/1CWhn1jsJIbToFIoX1KyRSJCPtbAHp5Dd?usp=sharing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ázok 3" descr=""/>
          <p:cNvPicPr/>
          <p:nvPr/>
        </p:nvPicPr>
        <p:blipFill>
          <a:blip r:embed="rId2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  <p:pic>
        <p:nvPicPr>
          <p:cNvPr id="116" name="Obrázok 2" descr=""/>
          <p:cNvPicPr/>
          <p:nvPr/>
        </p:nvPicPr>
        <p:blipFill>
          <a:blip r:embed="rId2"/>
          <a:stretch/>
        </p:blipFill>
        <p:spPr>
          <a:xfrm>
            <a:off x="1743120" y="0"/>
            <a:ext cx="8458200" cy="63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"/>
          <p:cNvSpPr/>
          <p:nvPr/>
        </p:nvSpPr>
        <p:spPr>
          <a:xfrm>
            <a:off x="2143080" y="434880"/>
            <a:ext cx="899496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poradná skupina ÚPP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z verejnej správy, podnikateľského aj neziskového sek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vytvára podskup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Referenčné údaje / 1* a d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Big data / analytické využitie d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htkLkndUppCv469v6WZFwL7LBK9CUj9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7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ávrh zákona má byť predložený do 31.12.2019 na rokovanie vlády SR (úloha AP O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á skupina začína činnosť v januári 201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8U3D3JPxYdGNz0qdEKCdubFGHs7Xmt4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aše vstupy?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4n3B0vFrFVi4dbcOloAHdgK9px5v6vCYqdFjY8Uw9bE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Dopytová výzva na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anažment údaj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é kolo uzávierka 14.12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ruhé kolo uzávierka 14.03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informatizacia.sk/Aktu%C3%A1lne%20v%C3%BDzvy/26920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nformatizacia.sk/ext_dok-dv_opii_2018_7_3_manazment_udajov_final/27097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príprava ďalších výziev v oblasti dá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 využitie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ok 3" descr=""/>
          <p:cNvPicPr/>
          <p:nvPr/>
        </p:nvPicPr>
        <p:blipFill>
          <a:blip r:embed="rId3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2079720" y="1549440"/>
            <a:ext cx="803268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KIVS, OGP, Stratégia... +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u ktorým potrebujete poradiť, usmerniť,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LAgioFdZMFZMXaY05rJ0hCFxkoRiYjmVrFZv5nUz-Ho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hľad neuzavretých úlo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kEw4NZtOMTDsxQ7-lRSXi9mfAA7teKHIUtLhZTkC16I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ok 4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videlnosť stretnutí?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raz za 3 mes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line zdieľanie informácií –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dočasne horeuvádzaný Drive s cieľom online kolaborácie, kým Dátová kancelária nespustí svoju webstránku (predpoklad 1/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á osoba: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lan Andrejkovič</dc:creator>
  <dc:description/>
  <dc:language>en-US</dc:language>
  <cp:lastModifiedBy>Milan Andrejkovič</cp:lastModifiedBy>
  <dcterms:modified xsi:type="dcterms:W3CDTF">2018-12-12T08:21:14Z</dcterms:modified>
  <cp:revision>8</cp:revision>
  <dc:subject/>
  <dc:title>Prezentáci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1</vt:lpwstr>
  </property>
  <property fmtid="{D5CDD505-2E9C-101B-9397-08002B2CF9AE}" pid="3" name="_dlc_DocIdItemGuid">
    <vt:lpwstr>ef4e5afc-8b0e-42f9-9081-e35c73d5bfca</vt:lpwstr>
  </property>
  <property fmtid="{D5CDD505-2E9C-101B-9397-08002B2CF9AE}" pid="4" name="_dlc_DocIdUrl">
    <vt:lpwstr>https://sp.finance.gov.sk/lepsie-data/_layouts/15/DocIdRedir.aspx?ID=CTYWSUCD3UHA-699772915-131, CTYWSUCD3UHA-699772915-131</vt:lpwstr>
  </property>
</Properties>
</file>