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DB7C5-4064-428B-B9B1-B3AE6C9D1235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32F1C-A053-4C4C-856B-FECD8A98B18E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70963-E6A1-477B-A348-252141B4136A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C8030-1CD3-4712-9424-5B766D90E166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C0D0F-20C8-4B8B-9FE9-C5B50E093B65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C2D72-CBBE-43D3-B917-239081323166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B2025-A0E5-4C24-880C-684E99CAD388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87722-1869-43C7-AB13-09981C3C9370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000" y="4867200"/>
            <a:ext cx="4233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9240" y="363240"/>
            <a:ext cx="105141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7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840" y="1276920"/>
            <a:ext cx="709596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440" y="-2269800"/>
            <a:ext cx="7095960" cy="846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6000" y="1276920"/>
            <a:ext cx="709524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1800" y="186696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3960" y="2776680"/>
            <a:ext cx="33984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9720" y="5045040"/>
            <a:ext cx="33984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3680" y="2109960"/>
            <a:ext cx="34750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1800" y="363060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9760" y="1384200"/>
            <a:ext cx="33984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8080" y="5510160"/>
            <a:ext cx="34768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8120" y="6829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280" y="4730760"/>
            <a:ext cx="387684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800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96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41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K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20.11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 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Rekapitulácia posledného vývoja, aktuálny stav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Dátová kancel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Informácia o dopytovej výzve na manažment údaj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Dohoda na ďalšom fungovaní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Úloha č. 2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edložiť návrh zákona o údajoch na rokovanie vlá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Zodpovední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a vlády SR pre investície a informatizáciu v spolupráci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níčkou vlády a ministerkou spravodlivos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om vlády a ministrom vnút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edúcim Úradu vlády S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dsedníčkou Úradu geodézie, kartografie a katastra S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plnomocnencom vlády SR pre rozvoj občianskej spoločn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Termín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do 31. decembra 2018 (bude predĺžený do 31.12.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2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81080" y="446040"/>
            <a:ext cx="10080720" cy="68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tup a harmon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ýza súčasného stavu (nov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oblémových oblastí (november-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dotaz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acovných skupín (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riešení (január 2019-apríl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zentácia riešení (máj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ečná kon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finálnych návrhov (máj 2019-jún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egislatívny proces (júl 2019-december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6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36720" y="0"/>
            <a:ext cx="10080360" cy="66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é skupiny budú otvorené a pozostávať 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Verejná 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rezorty (legislatívci, dátoví kurátori, analytické jednot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é OVM, OŠS (ÚOOÚ, Štatistický úrad,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Samo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MOS, ÚMS, DEUS,  vybrané mestá a 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dnikateľs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édiá (Trend, Hospodárske novi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biznis (Finstat,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Neziskov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Slovensko.Digital, ITAS, SOIT,...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ess, HPI, Ine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Centrum pre filantrop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Akademic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niverz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sa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efinícia poj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rčenie kompetenc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i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štand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licen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á kva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fraštru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GD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ý ku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ytické jedno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muniká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pri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eb stránka ÚPPVII / ÚSV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e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acebook a iné sociálne sie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órum slovensko.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rello,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ý bod: 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Vyjadrenie záujmu pracovať v PS Lepšie dáta (+dopln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y na témy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Vyjadrenie záujmu pracovať na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ávrhy na riešenie v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5</vt:lpwstr>
  </property>
  <property fmtid="{D5CDD505-2E9C-101B-9397-08002B2CF9AE}" pid="3" name="_dlc_DocIdItemGuid">
    <vt:lpwstr>3c5fd91d-8cf5-4d58-b3df-68b517b90623</vt:lpwstr>
  </property>
  <property fmtid="{D5CDD505-2E9C-101B-9397-08002B2CF9AE}" pid="4" name="_dlc_DocIdUrl">
    <vt:lpwstr>https://sp.finance.gov.sk/lepsie-data/_layouts/15/DocIdRedir.aspx?ID=CTYWSUCD3UHA-699772915-135, CTYWSUCD3UHA-699772915-135</vt:lpwstr>
  </property>
</Properties>
</file>