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move the slide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dt" idx="1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2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3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E1CC02-578F-442F-A12E-D480A383E645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9F57AF-354A-48C0-91B4-170AEBA114F5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8C10D7-F092-4C40-AE49-A1B2D7782FC7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87271A-CDA2-41C3-87E0-79A91A6CD926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D9DBCF-E663-4B9D-88C4-02E7B743B1C5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6B2B2F-3018-4283-9CF0-31528FACDEED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EB2511-4617-44B2-98BD-819A070EFCC1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6ABE64-A265-4754-ADF2-0F1D24095432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31856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80272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4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31856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80272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2720" cy="61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31856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0272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094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431856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80272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2720" cy="61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31856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0272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094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431856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80272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2720" cy="61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31856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80272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094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431856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80272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2720" cy="61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2720" cy="61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31856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80272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6094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431856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80272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2720" cy="61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31856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0272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6094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431856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80272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2720" cy="61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31856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80272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094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431856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80272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2720" cy="61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31856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0272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6094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431856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80272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3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4281480"/>
            <a:ext cx="12192120" cy="25765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7272360" y="4866840"/>
            <a:ext cx="423216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000"/>
          </a:bodyPr>
          <a:p>
            <a:pPr marL="2376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" name=""/>
          <p:cNvSpPr/>
          <p:nvPr/>
        </p:nvSpPr>
        <p:spPr>
          <a:xfrm flipH="1">
            <a:off x="11139120" y="6197760"/>
            <a:ext cx="343080" cy="1440"/>
          </a:xfrm>
          <a:prstGeom prst="line">
            <a:avLst/>
          </a:prstGeom>
          <a:ln w="3816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5"/>
          <a:stretch/>
        </p:blipFill>
        <p:spPr>
          <a:xfrm>
            <a:off x="490680" y="4938840"/>
            <a:ext cx="3284280" cy="59688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2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699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5746320" y="25560"/>
            <a:ext cx="700200" cy="1440"/>
          </a:xfrm>
          <a:prstGeom prst="line">
            <a:avLst/>
          </a:prstGeom>
          <a:ln w="5724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-3600" y="1844640"/>
            <a:ext cx="700200" cy="1800"/>
          </a:xfrm>
          <a:prstGeom prst="line">
            <a:avLst/>
          </a:prstGeom>
          <a:ln w="5724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11495160" y="4626000"/>
            <a:ext cx="699840" cy="1440"/>
          </a:xfrm>
          <a:prstGeom prst="line">
            <a:avLst/>
          </a:prstGeom>
          <a:ln w="5724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48880" y="363600"/>
            <a:ext cx="1051236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792440" y="894960"/>
            <a:ext cx="862632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000"/>
          </a:bodyPr>
          <a:p>
            <a:pPr marL="2736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03" name=""/>
          <p:cNvSpPr/>
          <p:nvPr/>
        </p:nvSpPr>
        <p:spPr>
          <a:xfrm>
            <a:off x="4264200" y="1955880"/>
            <a:ext cx="3551040" cy="3551040"/>
          </a:xfrm>
          <a:prstGeom prst="ellipse">
            <a:avLst/>
          </a:prstGeom>
          <a:noFill/>
          <a:ln w="127080">
            <a:solidFill>
              <a:srgbClr val="0055a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4880" y="1955880"/>
            <a:ext cx="3551040" cy="3551040"/>
          </a:xfrm>
          <a:prstGeom prst="ellipse">
            <a:avLst/>
          </a:prstGeom>
          <a:noFill/>
          <a:ln w="127080">
            <a:solidFill>
              <a:srgbClr val="808080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2841480" y="1265400"/>
            <a:ext cx="7095960" cy="8483400"/>
          </a:xfrm>
          <a:custGeom>
            <a:avLst/>
            <a:gdLst>
              <a:gd name="textAreaLeft" fmla="*/ 3547800 w 7095960"/>
              <a:gd name="textAreaRight" fmla="*/ 7095960 w 7095960"/>
              <a:gd name="textAreaTop" fmla="*/ 693720 h 8483400"/>
              <a:gd name="textAreaBottom" fmla="*/ 4241160 h 8483400"/>
            </a:gdLst>
            <a:ahLst/>
            <a:rect l="textAreaLeft" t="textAreaTop" r="textAreaRight" b="textAreaBottom"/>
            <a:pathLst>
              <a:path stroke="0" w="21600" h="21600">
                <a:moveTo>
                  <a:pt x="16682" y="1742"/>
                </a:moveTo>
                <a:arcTo wR="10800" hR="10800" stAng="-3420000" swAng="3420000"/>
                <a:lnTo>
                  <a:pt x="10800" y="10800"/>
                </a:lnTo>
                <a:close/>
              </a:path>
              <a:path fill="none" w="21600" h="21600">
                <a:moveTo>
                  <a:pt x="16682" y="1742"/>
                </a:moveTo>
                <a:arcTo wR="10800" hR="10800" stAng="-3420000" swAng="3420000"/>
              </a:path>
            </a:pathLst>
          </a:custGeom>
          <a:noFill/>
          <a:ln w="127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4267080" y="-2279520"/>
            <a:ext cx="7096320" cy="8485200"/>
          </a:xfrm>
          <a:custGeom>
            <a:avLst/>
            <a:gdLst>
              <a:gd name="textAreaLeft" fmla="*/ 3547800 w 7096320"/>
              <a:gd name="textAreaRight" fmla="*/ 7096320 w 7096320"/>
              <a:gd name="textAreaTop" fmla="*/ 694080 h 8485200"/>
              <a:gd name="textAreaBottom" fmla="*/ 4242240 h 8485200"/>
            </a:gdLst>
            <a:ahLst/>
            <a:rect l="textAreaLeft" t="textAreaTop" r="textAreaRight" b="textAreaBottom"/>
            <a:pathLst>
              <a:path stroke="0" w="21600" h="21600">
                <a:moveTo>
                  <a:pt x="16682" y="1742"/>
                </a:moveTo>
                <a:arcTo wR="10800" hR="10800" stAng="-3420000" swAng="3420000"/>
                <a:lnTo>
                  <a:pt x="10800" y="10800"/>
                </a:lnTo>
                <a:close/>
              </a:path>
              <a:path fill="none" w="21600" h="21600">
                <a:moveTo>
                  <a:pt x="16682" y="1742"/>
                </a:moveTo>
                <a:arcTo wR="10800" hR="10800" stAng="-3420000" swAng="3420000"/>
              </a:path>
            </a:pathLst>
          </a:custGeom>
          <a:noFill/>
          <a:ln w="127080">
            <a:solidFill>
              <a:srgbClr val="0055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12000" y="1955880"/>
            <a:ext cx="3551400" cy="3551040"/>
          </a:xfrm>
          <a:prstGeom prst="ellipse">
            <a:avLst/>
          </a:prstGeom>
          <a:noFill/>
          <a:ln w="127080">
            <a:solidFill>
              <a:srgbClr val="ed1c24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65640" y="1265400"/>
            <a:ext cx="7095960" cy="8483400"/>
          </a:xfrm>
          <a:custGeom>
            <a:avLst/>
            <a:gdLst>
              <a:gd name="textAreaLeft" fmla="*/ 3547800 w 7095960"/>
              <a:gd name="textAreaRight" fmla="*/ 7095960 w 7095960"/>
              <a:gd name="textAreaTop" fmla="*/ 693720 h 8483400"/>
              <a:gd name="textAreaBottom" fmla="*/ 4241160 h 8483400"/>
            </a:gdLst>
            <a:ahLst/>
            <a:rect l="textAreaLeft" t="textAreaTop" r="textAreaRight" b="textAreaBottom"/>
            <a:pathLst>
              <a:path stroke="0" w="21600" h="21600">
                <a:moveTo>
                  <a:pt x="16682" y="1742"/>
                </a:moveTo>
                <a:arcTo wR="10800" hR="10800" stAng="-3420000" swAng="3420000"/>
                <a:lnTo>
                  <a:pt x="10800" y="10800"/>
                </a:lnTo>
                <a:close/>
              </a:path>
              <a:path fill="none" w="21600" h="21600">
                <a:moveTo>
                  <a:pt x="16682" y="1742"/>
                </a:moveTo>
                <a:arcTo wR="10800" hR="10800" stAng="-3420000" swAng="3420000"/>
              </a:path>
            </a:pathLst>
          </a:custGeom>
          <a:noFill/>
          <a:ln w="12708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3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0" y="0"/>
            <a:ext cx="4703760" cy="6858000"/>
          </a:xfrm>
          <a:custGeom>
            <a:avLst/>
            <a:gdLst>
              <a:gd name="textAreaLeft" fmla="*/ 0 w 4703760"/>
              <a:gd name="textAreaRight" fmla="*/ 4704120 w 470376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-3600" y="1866960"/>
            <a:ext cx="343080" cy="1440"/>
          </a:xfrm>
          <a:prstGeom prst="line">
            <a:avLst/>
          </a:prstGeom>
          <a:ln w="3816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692160" y="2776680"/>
            <a:ext cx="343080" cy="1440"/>
          </a:xfrm>
          <a:prstGeom prst="line">
            <a:avLst/>
          </a:prstGeom>
          <a:ln w="38160">
            <a:solidFill>
              <a:srgbClr val="0055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638280" y="5045040"/>
            <a:ext cx="342720" cy="1800"/>
          </a:xfrm>
          <a:prstGeom prst="line">
            <a:avLst/>
          </a:prstGeom>
          <a:ln w="3816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554040" y="2109960"/>
            <a:ext cx="34732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6000"/>
          </a:bodyPr>
          <a:p>
            <a:pPr marL="19188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554040" y="528480"/>
            <a:ext cx="2894040" cy="5256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699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rcRect l="0" t="11211" r="0" b="1121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838080" y="1187280"/>
            <a:ext cx="3963960" cy="19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4000" spc="-1" strike="noStrike">
                <a:solidFill>
                  <a:srgbClr val="263c80"/>
                </a:solidFill>
                <a:latin typeface="Asap"/>
                <a:ea typeface="Roboto"/>
              </a:rPr>
              <a:t>Ďakujem </a:t>
            </a:r>
            <a:br>
              <a:rPr sz="4000"/>
            </a:br>
            <a:r>
              <a:rPr b="1" lang="sk-SK" sz="4000" spc="-1" strike="noStrike">
                <a:solidFill>
                  <a:srgbClr val="263c80"/>
                </a:solidFill>
                <a:latin typeface="Asap"/>
                <a:ea typeface="Roboto"/>
              </a:rPr>
              <a:t>za pozornos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-3600" y="3630600"/>
            <a:ext cx="343080" cy="1440"/>
          </a:xfrm>
          <a:prstGeom prst="line">
            <a:avLst/>
          </a:prstGeom>
          <a:ln w="3816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7888320" y="1384200"/>
            <a:ext cx="342720" cy="1800"/>
          </a:xfrm>
          <a:prstGeom prst="line">
            <a:avLst/>
          </a:prstGeom>
          <a:ln w="38160">
            <a:solidFill>
              <a:srgbClr val="0055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11139120" y="6197760"/>
            <a:ext cx="343080" cy="1440"/>
          </a:xfrm>
          <a:prstGeom prst="line">
            <a:avLst/>
          </a:prstGeom>
          <a:ln w="3816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837720" y="5509800"/>
            <a:ext cx="347508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33000"/>
          </a:bodyPr>
          <a:p>
            <a:pPr marL="11304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699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4"/>
          <a:srcRect l="5972" t="0" r="5972" b="0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 flipH="1">
            <a:off x="5746320" y="6829560"/>
            <a:ext cx="700200" cy="1440"/>
          </a:xfrm>
          <a:prstGeom prst="line">
            <a:avLst/>
          </a:prstGeom>
          <a:ln w="5724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4157640" y="4730760"/>
            <a:ext cx="387504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20000"/>
          </a:bodyPr>
          <a:p>
            <a:pPr marL="6840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50" name=""/>
          <p:cNvSpPr/>
          <p:nvPr/>
        </p:nvSpPr>
        <p:spPr>
          <a:xfrm>
            <a:off x="4856040" y="5815080"/>
            <a:ext cx="247968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400" spc="-1" strike="noStrike">
                <a:solidFill>
                  <a:srgbClr val="263c80"/>
                </a:solidFill>
                <a:latin typeface="Asap"/>
              </a:rPr>
              <a:t>www.vicepremier.gov.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5637240" y="760320"/>
            <a:ext cx="919080" cy="87156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699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4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837720" y="1825560"/>
            <a:ext cx="5178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2000"/>
          </a:bodyPr>
          <a:p>
            <a:pPr marL="31536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98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5746320" y="25560"/>
            <a:ext cx="700200" cy="1440"/>
          </a:xfrm>
          <a:prstGeom prst="line">
            <a:avLst/>
          </a:prstGeom>
          <a:ln w="5724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-3600" y="1844640"/>
            <a:ext cx="700200" cy="1800"/>
          </a:xfrm>
          <a:prstGeom prst="line">
            <a:avLst/>
          </a:prstGeom>
          <a:ln w="5724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11495160" y="4626000"/>
            <a:ext cx="699840" cy="1440"/>
          </a:xfrm>
          <a:prstGeom prst="line">
            <a:avLst/>
          </a:prstGeom>
          <a:ln w="5724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459080" y="3459240"/>
            <a:ext cx="9272520" cy="1440"/>
          </a:xfrm>
          <a:prstGeom prst="line">
            <a:avLst/>
          </a:prstGeom>
          <a:ln w="12600">
            <a:solidFill>
              <a:srgbClr val="263c80">
                <a:alpha val="3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0"/>
            <a:ext cx="12192120" cy="22986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0" lang="sk-SK" sz="1600" spc="-1" strike="noStrike">
                <a:solidFill>
                  <a:srgbClr val="263c80"/>
                </a:solidFill>
                <a:latin typeface="Roboto Regular"/>
              </a:rPr>
              <a:t>Insert Im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body"/>
          </p:nvPr>
        </p:nvSpPr>
        <p:spPr>
          <a:xfrm>
            <a:off x="880560" y="5067000"/>
            <a:ext cx="224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17000"/>
          </a:bodyPr>
          <a:p>
            <a:pPr marL="5832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title"/>
          </p:nvPr>
        </p:nvSpPr>
        <p:spPr>
          <a:xfrm>
            <a:off x="838080" y="348840"/>
            <a:ext cx="10512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3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7272360" y="4867200"/>
            <a:ext cx="42354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sap"/>
              </a:rPr>
              <a:t>PS Ope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272360" y="5251320"/>
            <a:ext cx="42354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18.12.2018 – 13: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272360" y="5630760"/>
            <a:ext cx="42354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ÚPPVII/ Londý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079360" y="1549080"/>
            <a:ext cx="8032680" cy="28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9900" spc="-1" strike="noStrike">
                <a:solidFill>
                  <a:srgbClr val="263c80"/>
                </a:solidFill>
                <a:latin typeface="Arial Black"/>
              </a:rPr>
              <a:t>DÁTA</a:t>
            </a:r>
            <a:endParaRPr b="0" lang="en-US" sz="199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95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165400" y="446040"/>
            <a:ext cx="899460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ogr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.            Dohoda na fungovaní 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2.            Zverejňovanie prioritných dataset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3.            Návrh – vedenie agendy v digitálnej for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4.            Ekonomická hodnota Ope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5.            I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Úlohy a ďalšie stretnu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165400" y="446040"/>
            <a:ext cx="899460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Dohoda na fungovaní P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. Pravidelnosť – každé 2 týžd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2. Návrh tém na stretnutie – štandardná štruktúra zasadnut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Microsoft YaHei"/>
              </a:rPr>
              <a:t>Quick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Microsoft YaHei"/>
              </a:rPr>
              <a:t>Strategické té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Microsoft YaHei"/>
              </a:rPr>
              <a:t>Prioritné datasety (po rezorto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Microsoft YaHei"/>
              </a:rPr>
              <a:t>Plnenie úloh AP OGP/ NKIVS/ Straté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Microsoft YaHei"/>
              </a:rPr>
              <a:t>Iné, ad hoc tém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165400" y="446040"/>
            <a:ext cx="899460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1. Zverejňovanie prioritných datasetov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https://docs.google.com/spreadsheets/d/13uVKtcS4vDHZISeLZvv-0E3Cefmutc8P-CVk0cEf1RM/edit#gid=1323657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rezort (15.01.2019):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 Štatistický úrad S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Alternatíva: MŽP SR (SHM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Príprava: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orovnanie s datasetmi na data.gov.sk (NASES?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Požiadavky (hodnotenie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Formát? Licencia? Kvalita? Aktuálnosť? Aktualizáci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? pomoc s Open API? Priori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165400" y="446040"/>
            <a:ext cx="899460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2. Návrh vedenia agendy v digitálnej for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Cieľom je pomôcť rezortom, ktoré majú záujem, s vytvorením vzorového dokument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https://docs.google.com/document/d/1gysbm-Dl5jaKpNynBWZ67B-15Go5O-mpGsCrzchnNrY/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. Obsa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2165400" y="446040"/>
            <a:ext cx="899460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3. Ekonomická hodnota Open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Cieľom je poukázať na náklady a prínosy zverejňovania otvorených údajov z ekonomického pohľadu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. Aspekt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Microsoft YaHei"/>
              </a:rPr>
              <a:t>Náklady, HzP (CBA), Ekonomika, Zamestnanosť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2. Existujúce analý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3. Návrh štruktúry analýz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https://docs.google.com/document/d/1WmIlPWI-A1r3ho70MqUnHailCMeaONf8ueWhBZiDlzs/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081080" y="446040"/>
            <a:ext cx="1008072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Zá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Úloh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. Posúdiť datasety vybraného rezortu (Štatistický úrad + MŽP S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https://docs.google.com/spreadsheets/d/13uVKtcS4vDHZISeLZvv-0E3Cefmutc8P-CVk0cEf1RM/edit#gid=1323657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2. Komentovať návrh Vedenia agendy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3. Prispieť k prvej časti Ekonomickej analý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4. Navrhnúť úlohu/y z OGP/NKIVS/Straté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081080" y="446040"/>
            <a:ext cx="1008072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Zá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Úloh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Ďalšie stretnutie: 15. 01. 2019 / Londý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Tém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Uzavretie „Vedenie agendy v digitálnej forme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Uzavretie prvej časti Ekonomickej analýzy Open data, otvorenie druhe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osúdenie zverejňovania Open data 1. rezortu, určenie 2. rezor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VROS USVROS</cp:lastModifiedBy>
  <dcterms:modified xsi:type="dcterms:W3CDTF">2018-11-27T12:45:35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dlc_DocId">
    <vt:lpwstr>CTYWSUCD3UHA-699772915-132</vt:lpwstr>
  </property>
  <property fmtid="{D5CDD505-2E9C-101B-9397-08002B2CF9AE}" pid="3" name="_dlc_DocIdItemGuid">
    <vt:lpwstr>e6520cb6-6600-4122-93bc-d7b0d9c1543b</vt:lpwstr>
  </property>
  <property fmtid="{D5CDD505-2E9C-101B-9397-08002B2CF9AE}" pid="4" name="_dlc_DocIdUrl">
    <vt:lpwstr>https://sp.finance.gov.sk/lepsie-data/_layouts/15/DocIdRedir.aspx?ID=CTYWSUCD3UHA-699772915-132, CTYWSUCD3UHA-699772915-132</vt:lpwstr>
  </property>
</Properties>
</file>